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4471-3C4E-4389-BE99-F17D0809B8D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5983-4BA1-46CB-9FDA-291BEC69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40E9-8589-4F86-8B27-F376DF9D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6A26-8671-433F-890C-2FA5B62C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121B-A2F7-48E3-97B7-5FDD927B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0F559-332D-44E7-A503-270CD5D3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49985-46C3-4D93-B464-5C19B3D2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3BE04-E46E-4EE2-AB0E-82CEA4D3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74C13-1D57-4ED8-A0D8-048EA517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DAC77-C620-4844-AA2D-C20EB299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86E6F-601A-4563-B216-36B1FADB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0D164-CB83-43A0-8B1F-D6427CA1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41AF-8AD3-4596-9A10-7BCAC3C7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48E6A-E80C-4277-BCE1-EE933543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8F43B-5DCA-4A47-8C39-D13F0601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40DF7-8683-431C-BD2B-216CE272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31E2E-6085-4EAE-921C-D7D9ACD2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3E66A-F0C3-480D-8B5C-20145C26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4A2871-BE7C-4FA5-A8A4-32713CD2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449E47-63A4-484A-B2C1-3B2F8A82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C10131-2BE2-42C7-BC63-1C48957C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BD51FB-A6B3-483A-858F-FC3F1139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2CCD18-5A17-49E5-BE16-2B234425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FD83-B1E1-4E3B-91ED-EBAF2A05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D15A62-5D28-4C5B-A12E-477D8693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F733B7-B61D-4FD3-A465-27E257B1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C62F0A-302D-403E-804B-D8ADDDCC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945CAA-1AD0-4BE4-A4D0-A79354E9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41A776-2CEF-4502-9B24-50351C26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977E1F-6716-4372-B3AC-D0FD5062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28CCDE-0BD3-4F77-B935-2DFC134C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88E8-7F5D-4C70-893F-AD5BA1D7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E5AF-B4B7-4BD1-A428-62F6FE30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BCD5-83B2-4D08-8003-FC7F6DD5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A4B7-0941-4B23-B1E0-FB7EFA66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D933-C27F-4EA8-A3D0-EB1CB0F0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4C8C-5D67-4AD6-986C-E6475AC2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E7E5-7613-43E3-A3DC-1A56A451C58A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F59F-97F6-4D61-ABC6-3BA178EB8DC4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FECC-A61F-466E-83C4-B19F5297DD48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FF4C-D30F-40A1-AF70-F7872F9D104A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5D7B-9610-48E7-ADA1-C68898807B4E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73EB-2C26-4A94-8E5B-B7DCEC5ED574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9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of Container Wago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4280" y="6093000"/>
            <a:ext cx="2654280" cy="461880"/>
            <a:chOff x="134280" y="6093000"/>
            <a:chExt cx="265428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400" y="6308640"/>
              <a:ext cx="26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_2015-01-20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4280" y="60930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cument title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78EB-2BA7-45F3-8D7A-062FC99D538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20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B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03AF-A2B2-4263-B740-B32E00BF748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Textfeld 5"/>
          <p:cNvSpPr/>
          <p:nvPr/>
        </p:nvSpPr>
        <p:spPr>
          <a:xfrm rot="20397600">
            <a:off x="64339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22320" y="2255760"/>
            <a:ext cx="9883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 of results and comment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ssential aspect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ects intentionally left out of the analysis, the impact of which is as follows: (…)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y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 present value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ak-even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years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year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positive value:  revenue,    negative values: 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break-even:   number of years until the alternative option becomes advantageou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annuity:  average annual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DBD7-BC1D-44D6-A451-3229745536A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ponsible Departmen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tenance documentation 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Origi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riation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alternative option to basic op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y Performance Indicato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age between reprofiling wheel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793A-40EB-4CFE-92C6-3FF4DD240CC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7" name="Textfeld 1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-and-loss chart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Delta of variant “B” in relation to variant “A” [= zero lin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8D42-37ED-467F-8BB9-E33D2DC3DED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1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3" name="Picture 303" descr=""/>
          <p:cNvPicPr/>
          <p:nvPr/>
        </p:nvPicPr>
        <p:blipFill>
          <a:blip r:embed="rId1"/>
          <a:stretch/>
        </p:blipFill>
        <p:spPr>
          <a:xfrm>
            <a:off x="878040" y="1446120"/>
            <a:ext cx="8132760" cy="518976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4"/>
          <p:cNvSpPr/>
          <p:nvPr/>
        </p:nvSpPr>
        <p:spPr>
          <a:xfrm rot="20397600">
            <a:off x="62053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eak-even char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962B-6E75-4E90-95ED-F1E3F55594C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Textfeld 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85978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recommended to purchase the container wagon made by company B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ed Option / Recommend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cause of the radial adjustability of the wheelsets, the wear rate of the wheels is lower and the lifetime of the wheels and the reprofiling cycle are therefore considerably lo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e to the higher quality of the container locks, maintenance expenditure is lower compared with the container wagon made by company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natory Statement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-even:     13 year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erage Annual Savings     (Delta Annuity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rify financial optio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condition for Implement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a purchase time schedule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tain approval from financial controlling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rther Procedure        Target Date / Responsibiliti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9DB5-C811-4B04-9488-9DF001F3A6D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0" name="Textfeld 1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val 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73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mpiled by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74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Traceability of implementati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76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9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1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82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5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6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7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93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alidated by client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94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95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9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401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6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7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8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9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0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1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2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3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14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1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62F8-50E3-4164-9602-B7BAEB10121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6" name="Textfeld 49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chase of 85 new container flat wagons, each carrying 60’ in total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operator’s quality gate (filter) has been applied, only the container flat wagons of the two companies A and B remai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onsible for the LCC calculation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s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/09/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/01/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Life Cycle Costs of both remaining wagons are to be calculat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Client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rting 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tas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iginator of the LCC calculation, dat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7320" y="6419880"/>
            <a:ext cx="494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ed,  A = Agreed  D = Decided,  P = Preconditions in place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c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D          P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5768-7C8F-42F6-937C-58B6E5A6AAC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 Framework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relevant / relevant, but not part of the 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ained in the 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rmined on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7004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7004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container locking 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5448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 replacement of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5448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ingle Sgns-type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53040" y="41162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76520" y="40766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-type 380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of other parts of the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consumption while operat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access charg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ading / unload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B325-48B8-4AD4-A40C-FA14AF9EBC7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3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Breakdown Structure / System Environment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unted par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carriag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else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872800" y="4218840"/>
            <a:ext cx="179604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872800" y="5515920"/>
            <a:ext cx="181512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A6E1-10F5-4FC5-8AF8-52D0DE689AA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20"/>
          <p:cNvSpPr/>
          <p:nvPr/>
        </p:nvSpPr>
        <p:spPr>
          <a:xfrm rot="20397600">
            <a:off x="628164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61468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. Oper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703600" y="1944720"/>
            <a:ext cx="21780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1 Energ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2 Staf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3 Clean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4 Making avail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 Insurance /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6 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 Infrastructure u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 seg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b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track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ipment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04180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. Mainten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472520" y="1484280"/>
            <a:ext cx="233820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V. Product Failu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48480" y="1936800"/>
            <a:ext cx="21481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1  Product 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3  Malfunc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plann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1  Pro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3  Malfun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0160" y="1496880"/>
            <a:ext cx="2315880" cy="468180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chase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16080" y="1949400"/>
            <a:ext cx="211608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One-off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Recurrent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assembly 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ommissioning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116680" y="1936800"/>
            <a:ext cx="212868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0 “One-off” prepar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ection / Diagnostic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4 Condition-bas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7 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system for vehicl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CC cost blocks used for the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49400" y="6194520"/>
            <a:ext cx="65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)  For simplicity’s sake, the term “purchase” also comprises residual costs as well as disposal / further utilisation.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72880" y="2998800"/>
            <a:ext cx="218304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097600" y="4092480"/>
            <a:ext cx="2182680" cy="37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089680" y="31590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752F-43BC-4CE7-9F6B-80292591F0A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Textfeld 15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pose &amp; brief description of each op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reduced maintenance expenditure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well-known characteristics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d to the existing wagon type, both the lifetime of the wheels and the reprofiling cycle are extended. The reliability of container lockings will be significantly improve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wer investment cost may result in maintenance expenditure being the same as today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A208-939F-436F-A11F-0E889678D35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Textfeld 11"/>
          <p:cNvSpPr/>
          <p:nvPr/>
        </p:nvSpPr>
        <p:spPr>
          <a:xfrm rot="20397600">
            <a:off x="48337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nts: list of principal difference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 rate:                 10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 rate:                   3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 span of wagon:      25 year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nual mileage:          115,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nings are fixed and equivalent for both options. For this reason only the cost structure of the two options will be compar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rks concerning general assumptions for all options, comments and critical factor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wheelse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running gear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container loc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ance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container locks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B3A1-36A1-4B9E-B625-2139A156EBF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Textfeld 20"/>
          <p:cNvSpPr/>
          <p:nvPr/>
        </p:nvSpPr>
        <p:spPr>
          <a:xfrm rot="20397600">
            <a:off x="55195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osition of Cost and Cycle Dat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,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,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92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container lock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18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9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rrective maintenance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profiling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7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541D-65E0-46D9-B23C-57678D5589A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2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9E39-6D94-4302-B9C7-5389B72192B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Textfeld 4"/>
          <p:cNvSpPr/>
          <p:nvPr/>
        </p:nvSpPr>
        <p:spPr>
          <a:xfrm rot="20397600">
            <a:off x="59767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2320" y="2252520"/>
            <a:ext cx="9878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3T13:14:47Z</dcterms:modified>
  <cp:revision>83</cp:revision>
  <dc:subject/>
  <dc:title>Slide 0</dc:title>
</cp:coreProperties>
</file>