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7B35-AACC-4B01-BF8E-B22454FB666D}"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C6A43D6-62B0-4596-A4E0-C07F613B89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37116D8-0799-4A17-962F-4D9FDF9EB5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5A37987-794F-40AF-8123-6DF4601F35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FCC87A5-8022-4A8E-BC3E-071488DF8A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3F68275-ED01-4632-9C15-AA4D7050622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A83AB70-CCA1-4FAE-BB2B-B4A18FE84D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746FA38-3115-4434-9EA5-BA82C4B9609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00A691D-7AA2-4D0F-A52B-2B77D4CCE4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2BCE7B2-7499-48FD-BBC8-D4DFB2984DA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8AD2CBA-D149-44D2-9099-9E7F3074932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AFB5C90-7D92-4A72-81AB-99611CE54D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57B6FDF-1CC8-4CDC-891A-3A1026C489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FD0D27E-B060-4C16-81C5-EF3D253B44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228A52A-560D-48C4-B1F6-810F2F5BB9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C9A9420-B24D-4B8C-9A83-EA3213CF11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DB6F360F-63A3-46A3-BCE9-3D3BA66032A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9DBB6C64-9905-43C3-A34C-8DF4302BAEF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3A56961-80CC-4F67-9520-FDF1AF2F153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666C703-EC28-4A15-AEB0-5F540A7732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7A7B2CD-7F28-47A4-9A84-5D2B0533A5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2414A2F-D0A9-4909-A772-80284E0BF4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C51E2D8-00F6-4275-8620-19C5E50C5F4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A6BBB42-9E25-4755-BE8A-3A42BF202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5E79BC2-C9A7-493E-B4E2-C7C7CFFBA9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FCCBFBF-C6CD-4FCC-B61D-23A941F76D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6A7FB64-6C6C-484F-BC31-FA45C2B382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449522E-D1D9-4FA6-9410-D5B5F9D731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25A0456-6082-473D-AEA0-C5BEB83DCF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AD958EF-AD21-48C3-B3CE-2A973F5BDC0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5EC0EB9-9C08-4ADD-A170-DDEA7736FC5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A740ECD-EA67-4CB9-8CD8-76F2FAF9B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C6105CB-E096-44B9-9D71-390A1839C7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CD0C7D6-621A-4A56-8D70-C08D975374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2252466-5DE6-426F-A446-30B526EF35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6B3867F-2E72-4B35-AD59-CD6B9268F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DE13153-9293-4029-8A65-2DFE07BDE4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0DCE-0658-4F23-A1EE-16A908C27B0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93E8-BF53-4A64-8F53-1E090AA9AEEB}" type="datetime">
              <a:rPr b="0" lang="de-DE" sz="900" spc="-1" strike="noStrike">
                <a:solidFill>
                  <a:srgbClr val="000000"/>
                </a:solidFill>
                <a:latin typeface="DB Office"/>
              </a:rPr>
              <a:t>28.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E9A0-FC01-4842-8F94-B24F3DDFFBF4}"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D0C7-AE58-4065-8CB4-F552AD6DB806}" type="datetime">
              <a:rPr b="0" lang="de-DE" sz="900" spc="-1" strike="noStrike">
                <a:solidFill>
                  <a:srgbClr val="000000"/>
                </a:solidFill>
                <a:latin typeface="DB Office"/>
              </a:rPr>
              <a:t>28.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57AE-FE70-45B4-92FC-D7EE30B34A5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E5FA-F5D4-432F-A2B1-7682EB21BC01}" type="datetime">
              <a:rPr b="0" lang="de-DE" sz="900" spc="-1" strike="noStrike">
                <a:solidFill>
                  <a:srgbClr val="000000"/>
                </a:solidFill>
                <a:latin typeface="DB Office"/>
              </a:rPr>
              <a:t>28.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22E2-E1B2-42F9-905C-60FFBDB2E98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EA7C-BED6-4376-8D23-873F8632737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805F-7319-452A-9F8D-DADEA9BE678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B047-7A24-44FF-9B86-7F60F179875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5D64-21F2-4534-B805-8C82C46EADB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B13F-CAD0-4471-882C-E19C2FFFA03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BD85-7CA4-4616-A922-399D2259436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397E-F345-4A11-8C09-94AA409389C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C3D9-D40F-4725-92BA-BDFE08D2FD5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9A16-0326-481D-92DC-660B60C941C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2B15-DB18-4329-AEFC-2A5CAFA82FC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5E2A-6FA3-4C9E-837A-3BE6B8FF823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575D-1958-4890-840F-788DB1EC2A8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1669-7192-4B06-9D5E-2C3E432318FC}"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4EDE-1483-4DE0-B2E3-617B2CE5DF80}"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9FE8A-032F-4A58-AEC8-E3F642E6C3EF}"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